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6012-CC7A-46AA-B8C5-B4C705B8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E6D-CC1F-4095-AA58-E71BAF6B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6F1D-C8B8-43D2-AF6D-8B69431B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710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868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2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710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868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ECE-4942-446B-A20C-CD14DC9A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000" y="483840"/>
            <a:ext cx="655164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C8C9-1AB5-45C8-85F5-F6F7D944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710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868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52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710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1868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B259-C0D3-4339-8F73-DDEF27AD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4000" y="483840"/>
            <a:ext cx="655164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9710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868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552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9710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1868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806F-A458-41C6-A6CC-615F465C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4000" y="483840"/>
            <a:ext cx="655164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710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868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552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710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1868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21E-3C0C-4CA1-8C0C-2BE07F41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4000" y="483840"/>
            <a:ext cx="655164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4000" y="483840"/>
            <a:ext cx="655164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F34-D769-4ACA-82EC-DF70BBE6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9710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1868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552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9710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1868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D39E-E490-4421-A75C-07C90D58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B89F-7BBB-4114-8123-B6C16DE4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5060-2974-4952-8371-B2679494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0C8B-3D35-4085-AD90-C1D05417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4FE6-ACC3-4BEF-9D97-94E2C308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4000" y="483840"/>
            <a:ext cx="6551640" cy="18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13CC-41FB-4D70-A03A-9DBC9ABA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EA40-DAAC-49BC-837E-BA345AED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7E03-3037-423F-ADC6-650801E4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A246-3A37-4417-BEBA-4BA4B3CF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FA9-26BC-49CE-9809-6A839219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93C5-5CF2-4D09-8291-276786EA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3D4D-FAA4-46B2-9580-0BCEC30E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9710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86880" y="148608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7552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9710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186880" y="3097800"/>
            <a:ext cx="21099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36D2-BE02-41B9-AC97-6EA67253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13360" y="309780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349-F150-4EBD-BC5D-C9A83A41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28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13360" y="1486080"/>
            <a:ext cx="3197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280" y="3097800"/>
            <a:ext cx="65530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DB2F-AC8C-4725-B611-EA42A1AF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ild 1" descr="Fond_02.jpg"/>
          <p:cNvPicPr/>
          <p:nvPr/>
        </p:nvPicPr>
        <p:blipFill>
          <a:blip r:embed="rId2"/>
          <a:stretch/>
        </p:blipFill>
        <p:spPr>
          <a:xfrm>
            <a:off x="7535880" y="0"/>
            <a:ext cx="160812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55280" y="4821120"/>
            <a:ext cx="10796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7596360" y="4821120"/>
            <a:ext cx="1008000" cy="271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© 2014, DIN e. 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014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9296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1" marL="342000" indent="-2026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2" marL="58176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3" marL="77472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4" marL="96912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5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6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17080" y="4820760"/>
            <a:ext cx="792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AEC4-E9A7-4301-AE45-29C57BFEF973}" type="slidenum"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ild 1" descr="Fond_02.jpg"/>
          <p:cNvPicPr/>
          <p:nvPr/>
        </p:nvPicPr>
        <p:blipFill>
          <a:blip r:embed="rId2"/>
          <a:stretch/>
        </p:blipFill>
        <p:spPr>
          <a:xfrm>
            <a:off x="7535880" y="0"/>
            <a:ext cx="1608120" cy="5143680"/>
          </a:xfrm>
          <a:prstGeom prst="rect">
            <a:avLst/>
          </a:prstGeom>
          <a:ln w="0">
            <a:noFill/>
          </a:ln>
        </p:spPr>
      </p:pic>
      <p:pic>
        <p:nvPicPr>
          <p:cNvPr id="43" name="Bild 7" descr="Fond_03.jpg"/>
          <p:cNvPicPr/>
          <p:nvPr/>
        </p:nvPicPr>
        <p:blipFill>
          <a:blip r:embed="rId3"/>
          <a:stretch/>
        </p:blipFill>
        <p:spPr>
          <a:xfrm>
            <a:off x="-7920" y="0"/>
            <a:ext cx="9151920" cy="5149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014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9296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1" marL="342000" indent="-2026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2" marL="58176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3" marL="77472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4" marL="96912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5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6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Bild 1" descr="Fond_02.jpg"/>
          <p:cNvPicPr/>
          <p:nvPr/>
        </p:nvPicPr>
        <p:blipFill>
          <a:blip r:embed="rId2"/>
          <a:stretch/>
        </p:blipFill>
        <p:spPr>
          <a:xfrm>
            <a:off x="7535880" y="0"/>
            <a:ext cx="160812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Rechteck 6"/>
          <p:cNvSpPr/>
          <p:nvPr/>
        </p:nvSpPr>
        <p:spPr>
          <a:xfrm>
            <a:off x="0" y="2284560"/>
            <a:ext cx="9144000" cy="285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84" name="Rechteck 8"/>
          <p:cNvSpPr/>
          <p:nvPr/>
        </p:nvSpPr>
        <p:spPr>
          <a:xfrm>
            <a:off x="0" y="0"/>
            <a:ext cx="7559640" cy="2284560"/>
          </a:xfrm>
          <a:prstGeom prst="rect">
            <a:avLst/>
          </a:prstGeom>
          <a:solidFill>
            <a:srgbClr val="133e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014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9296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1" marL="342000" indent="-2026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2" marL="58176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3" marL="77472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4" marL="96912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5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6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Bild 1" descr="Fond_02.jpg"/>
          <p:cNvPicPr/>
          <p:nvPr/>
        </p:nvPicPr>
        <p:blipFill>
          <a:blip r:embed="rId2"/>
          <a:stretch/>
        </p:blipFill>
        <p:spPr>
          <a:xfrm>
            <a:off x="7535880" y="0"/>
            <a:ext cx="1608120" cy="5143680"/>
          </a:xfrm>
          <a:prstGeom prst="rect">
            <a:avLst/>
          </a:prstGeom>
          <a:ln w="0">
            <a:noFill/>
          </a:ln>
        </p:spPr>
      </p:pic>
      <p:sp>
        <p:nvSpPr>
          <p:cNvPr id="124" name="Rechteck 6"/>
          <p:cNvSpPr/>
          <p:nvPr/>
        </p:nvSpPr>
        <p:spPr>
          <a:xfrm>
            <a:off x="0" y="2284560"/>
            <a:ext cx="9144000" cy="2859120"/>
          </a:xfrm>
          <a:prstGeom prst="rect">
            <a:avLst/>
          </a:prstGeom>
          <a:solidFill>
            <a:srgbClr val="b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125" name="Rechteck 8"/>
          <p:cNvSpPr/>
          <p:nvPr/>
        </p:nvSpPr>
        <p:spPr>
          <a:xfrm>
            <a:off x="0" y="0"/>
            <a:ext cx="7559640" cy="2284560"/>
          </a:xfrm>
          <a:prstGeom prst="rect">
            <a:avLst/>
          </a:prstGeom>
          <a:solidFill>
            <a:srgbClr val="133e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014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9296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1" marL="342000" indent="-2026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2" marL="58176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3" marL="77472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4" marL="96912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5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6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Bild 1" descr="Fond_02.jpg"/>
          <p:cNvPicPr/>
          <p:nvPr/>
        </p:nvPicPr>
        <p:blipFill>
          <a:blip r:embed="rId2"/>
          <a:stretch/>
        </p:blipFill>
        <p:spPr>
          <a:xfrm>
            <a:off x="7535880" y="0"/>
            <a:ext cx="1608120" cy="5143680"/>
          </a:xfrm>
          <a:prstGeom prst="rect">
            <a:avLst/>
          </a:prstGeom>
          <a:ln w="0">
            <a:noFill/>
          </a:ln>
        </p:spPr>
      </p:pic>
      <p:sp>
        <p:nvSpPr>
          <p:cNvPr id="165" name="Rechteck 7"/>
          <p:cNvSpPr/>
          <p:nvPr/>
        </p:nvSpPr>
        <p:spPr>
          <a:xfrm>
            <a:off x="0" y="2284560"/>
            <a:ext cx="9144000" cy="2859120"/>
          </a:xfrm>
          <a:prstGeom prst="rect">
            <a:avLst/>
          </a:prstGeom>
          <a:solidFill>
            <a:srgbClr val="cdd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166" name="Rechteck 8"/>
          <p:cNvSpPr/>
          <p:nvPr/>
        </p:nvSpPr>
        <p:spPr>
          <a:xfrm>
            <a:off x="0" y="0"/>
            <a:ext cx="7559640" cy="2284560"/>
          </a:xfrm>
          <a:prstGeom prst="rect">
            <a:avLst/>
          </a:prstGeom>
          <a:solidFill>
            <a:srgbClr val="133e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014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9296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1" marL="342000" indent="-2026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2" marL="58176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3" marL="77472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4" marL="96912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5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6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Bild 1" descr="Fond_02.jpg"/>
          <p:cNvPicPr/>
          <p:nvPr/>
        </p:nvPicPr>
        <p:blipFill>
          <a:blip r:embed="rId2"/>
          <a:stretch/>
        </p:blipFill>
        <p:spPr>
          <a:xfrm>
            <a:off x="7535880" y="0"/>
            <a:ext cx="1608120" cy="51436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000" y="483840"/>
            <a:ext cx="6551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014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5280" y="1486080"/>
            <a:ext cx="655308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9296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1" marL="342000" indent="-20268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2" marL="58176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3" marL="774720" indent="-1663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4" marL="969120" indent="-1929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5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  <a:p>
            <a:pPr lvl="6" marL="969120" indent="-192960">
              <a:spcAft>
                <a:spcPts val="601"/>
              </a:spcAft>
              <a:buClr>
                <a:srgbClr val="002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4"/>
          </p:nvPr>
        </p:nvSpPr>
        <p:spPr>
          <a:xfrm>
            <a:off x="7596360" y="4821120"/>
            <a:ext cx="1008000" cy="271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dt" idx="5"/>
          </p:nvPr>
        </p:nvSpPr>
        <p:spPr>
          <a:xfrm>
            <a:off x="755280" y="4821120"/>
            <a:ext cx="10796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2b5c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E3DB-237B-4F97-A7E9-64CDBDA0A43D}" type="datetime">
              <a:rPr b="0" lang="en-GB" sz="900" spc="-1" strike="noStrike">
                <a:solidFill>
                  <a:srgbClr val="002b5c"/>
                </a:solidFill>
                <a:latin typeface="Arial"/>
                <a:ea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2b5c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CE1C-40E0-44F6-8D59-EACD624CD723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71280" y="3650760"/>
            <a:ext cx="6335640" cy="12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 Narrow"/>
              </a:rPr>
              <a:t>Др. Марина Эггерт, Международный эксперт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9c0014"/>
                </a:solidFill>
                <a:latin typeface="Arial"/>
              </a:rPr>
              <a:t>Bishkek, Kyrgyzstan</a:t>
            </a:r>
            <a:br>
              <a:rPr sz="1800"/>
            </a:br>
            <a:r>
              <a:rPr b="0" lang="de-DE" sz="1800" spc="-1" strike="noStrike">
                <a:solidFill>
                  <a:srgbClr val="9c0014"/>
                </a:solidFill>
                <a:latin typeface="Arial"/>
              </a:rPr>
              <a:t>January 2016</a:t>
            </a:r>
            <a:endParaRPr b="0" lang="en-US" sz="18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71280" y="2355480"/>
            <a:ext cx="6335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b5c"/>
                </a:solidFill>
                <a:latin typeface="Tahoma"/>
              </a:rPr>
              <a:t>Организация</a:t>
            </a:r>
            <a:br>
              <a:rPr sz="2400"/>
            </a:br>
            <a:r>
              <a:rPr b="0" lang="ru-RU" sz="2400" spc="-1" strike="noStrike">
                <a:solidFill>
                  <a:srgbClr val="002b5c"/>
                </a:solidFill>
                <a:latin typeface="Tahoma"/>
              </a:rPr>
              <a:t>Технических Комитетов</a:t>
            </a:r>
            <a:r>
              <a:rPr b="0" lang="en-US" sz="2400" spc="-1" strike="noStrike">
                <a:solidFill>
                  <a:srgbClr val="002b5c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002b5c"/>
                </a:solidFill>
                <a:latin typeface="Tahoma"/>
              </a:rPr>
              <a:t>опыт Германии</a:t>
            </a:r>
            <a:endParaRPr b="0" lang="en-US" sz="24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6840" y="627120"/>
            <a:ext cx="69944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958"/>
                </a:solidFill>
                <a:latin typeface="Arial"/>
              </a:rPr>
              <a:t>Консультативный совет имеет следующие задачи</a:t>
            </a:r>
            <a:r>
              <a:rPr b="1" lang="de-DE" sz="1500" spc="-1" strike="noStrike">
                <a:solidFill>
                  <a:srgbClr val="002958"/>
                </a:solidFill>
                <a:latin typeface="Arial"/>
              </a:rPr>
              <a:t>  -2-</a:t>
            </a: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958"/>
                </a:solidFill>
                <a:latin typeface="Arial"/>
              </a:rPr>
              <a:t>забота о финансировании рабочей программы и задач КС, </a:t>
            </a: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958"/>
                </a:solidFill>
                <a:latin typeface="Arial"/>
              </a:rPr>
              <a:t>утверждение бюджета и финансовых отчетов, в случае если в соглашении в соответствии с п. 14 не было согласовано другое решение данного вопроса, </a:t>
            </a: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958"/>
                </a:solidFill>
                <a:latin typeface="Arial"/>
              </a:rPr>
              <a:t>забота о представлении КС и его работы в общественных кругах, а также содействие введению его стандартов в практику, </a:t>
            </a: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958"/>
                </a:solidFill>
                <a:latin typeface="Arial"/>
              </a:rPr>
              <a:t>консультирование и поддержка председателя КС при выполнении им своих задач, </a:t>
            </a: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958"/>
                </a:solidFill>
                <a:latin typeface="Arial"/>
              </a:rPr>
              <a:t>ежегодное принятие решения об освобождении от должности председателя КС и директора, </a:t>
            </a: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958"/>
                </a:solidFill>
                <a:latin typeface="Arial"/>
              </a:rPr>
              <a:t>принятие решения о регламенте КС и его изменениях, </a:t>
            </a: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958"/>
                </a:solidFill>
                <a:latin typeface="Arial"/>
              </a:rPr>
              <a:t>принятие решения о разрешении увеличения числа сотрудников рабочего комитета свыше 21, </a:t>
            </a: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958"/>
                </a:solidFill>
                <a:latin typeface="Arial"/>
              </a:rPr>
              <a:t>в случае необходимости, проверка состава рабочего комитета. </a:t>
            </a: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68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663D-F1DF-4983-8B00-664A7FB271AA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269" name="Rechteck 4"/>
          <p:cNvSpPr/>
          <p:nvPr/>
        </p:nvSpPr>
        <p:spPr>
          <a:xfrm>
            <a:off x="395280" y="555480"/>
            <a:ext cx="6985080" cy="4069080"/>
          </a:xfrm>
          <a:prstGeom prst="rect">
            <a:avLst/>
          </a:prstGeom>
          <a:noFill/>
          <a:ln w="25560">
            <a:solidFill>
              <a:srgbClr val="0077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68360" y="771120"/>
            <a:ext cx="691200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2958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2958"/>
                </a:solidFill>
                <a:latin typeface="Arial"/>
              </a:rPr>
              <a:t>Определенные задачи консультативного совета из п.7.7 (за исключением </a:t>
            </a:r>
            <a:r>
              <a:rPr b="0" lang="de-DE" sz="1900" spc="-1" strike="noStrike">
                <a:solidFill>
                  <a:srgbClr val="002958"/>
                </a:solidFill>
                <a:latin typeface="Arial"/>
              </a:rPr>
              <a:t>a</a:t>
            </a:r>
            <a:r>
              <a:rPr b="0" lang="ru-RU" sz="1900" spc="-1" strike="noStrike">
                <a:solidFill>
                  <a:srgbClr val="002958"/>
                </a:solidFill>
                <a:latin typeface="Arial"/>
              </a:rPr>
              <a:t>), </a:t>
            </a:r>
            <a:r>
              <a:rPr b="0" lang="de-DE" sz="1900" spc="-1" strike="noStrike">
                <a:solidFill>
                  <a:srgbClr val="002958"/>
                </a:solidFill>
                <a:latin typeface="Arial"/>
              </a:rPr>
              <a:t>b</a:t>
            </a:r>
            <a:r>
              <a:rPr b="0" lang="ru-RU" sz="1900" spc="-1" strike="noStrike">
                <a:solidFill>
                  <a:srgbClr val="002958"/>
                </a:solidFill>
                <a:latin typeface="Arial"/>
              </a:rPr>
              <a:t>) и </a:t>
            </a:r>
            <a:r>
              <a:rPr b="0" lang="de-DE" sz="1900" spc="-1" strike="noStrike">
                <a:solidFill>
                  <a:srgbClr val="002958"/>
                </a:solidFill>
                <a:latin typeface="Arial"/>
              </a:rPr>
              <a:t>k</a:t>
            </a:r>
            <a:r>
              <a:rPr b="0" lang="ru-RU" sz="1900" spc="-1" strike="noStrike">
                <a:solidFill>
                  <a:srgbClr val="002958"/>
                </a:solidFill>
                <a:latin typeface="Arial"/>
              </a:rPr>
              <a:t>)) могут быть перепоручены председателю КС, или одному из председателей КС, или его заместителю, или одному из его заместителей, а также руководителю существующей комиссии (в некоторых КС называемой "Руководство") или координационным комитетам отделов. </a:t>
            </a:r>
            <a:endParaRPr b="0" lang="en-US" sz="19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2958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2958"/>
                </a:solidFill>
                <a:latin typeface="Arial"/>
              </a:rPr>
              <a:t>Если задачи перепоручаются, это регулируется регламентом КС.</a:t>
            </a:r>
            <a:endParaRPr b="0" lang="en-US" sz="19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2958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2958"/>
                </a:solidFill>
                <a:latin typeface="Arial"/>
              </a:rPr>
              <a:t>Консультативный совет для своей поддержки может создавать другие комитеты и утверждать их состав.</a:t>
            </a:r>
            <a:endParaRPr b="0" lang="en-US" sz="19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71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3258-EA76-4DB9-AB95-18F3124C1592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68000" y="483840"/>
            <a:ext cx="670572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958"/>
                </a:solidFill>
                <a:latin typeface="Arial"/>
              </a:rPr>
              <a:t>Председатель КС</a:t>
            </a:r>
            <a:endParaRPr b="0" lang="en-US" sz="19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958"/>
                </a:solidFill>
                <a:latin typeface="Arial"/>
              </a:rPr>
              <a:t>Председатель КС и его заместитель выбираются консультативным советом сроком на три года. К моменту своего назначения они должны быть задействованы профессионально. Повторный выбор позволяется, однако непрерывный срок службы председателя КС и заместителя председателя КС не должен превышать шести лет. </a:t>
            </a:r>
            <a:endParaRPr b="0" lang="en-US" sz="19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958"/>
                </a:solidFill>
                <a:latin typeface="Arial"/>
              </a:rPr>
              <a:t>Председатель КС и его заместитель должны принадлежать к различным заинтересованным в работе по стандартизации КС сторонам. </a:t>
            </a:r>
            <a:endParaRPr b="0" lang="en-US" sz="19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73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31D2-447E-46C3-8B7C-A4712DDEC4CC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24000" y="825120"/>
            <a:ext cx="698472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2958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2958"/>
                </a:solidFill>
                <a:latin typeface="Arial"/>
              </a:rPr>
              <a:t>Выбор и повторный выбор председателя КС и его заместителя требуют подтверждения президента </a:t>
            </a:r>
            <a:r>
              <a:rPr b="0" lang="de-DE" sz="1700" spc="-1" strike="noStrike">
                <a:solidFill>
                  <a:srgbClr val="002958"/>
                </a:solidFill>
                <a:latin typeface="Arial"/>
              </a:rPr>
              <a:t>DIN</a:t>
            </a:r>
            <a:r>
              <a:rPr b="0" lang="ru-RU" sz="1700" spc="-1" strike="noStrike">
                <a:solidFill>
                  <a:srgbClr val="002958"/>
                </a:solidFill>
                <a:latin typeface="Arial"/>
              </a:rPr>
              <a:t>. Если президент </a:t>
            </a:r>
            <a:r>
              <a:rPr b="0" lang="de-DE" sz="1700" spc="-1" strike="noStrike">
                <a:solidFill>
                  <a:srgbClr val="002958"/>
                </a:solidFill>
                <a:latin typeface="Arial"/>
              </a:rPr>
              <a:t>DIN</a:t>
            </a:r>
            <a:r>
              <a:rPr b="0" lang="ru-RU" sz="1700" spc="-1" strike="noStrike">
                <a:solidFill>
                  <a:srgbClr val="002958"/>
                </a:solidFill>
                <a:latin typeface="Arial"/>
              </a:rPr>
              <a:t> не дает своего согласия, следует провести новые выборы. Против отказа в подтверждении консультативный совет может подать жалобу в президиум </a:t>
            </a:r>
            <a:r>
              <a:rPr b="0" lang="en-US" sz="1700" spc="-1" strike="noStrike">
                <a:solidFill>
                  <a:srgbClr val="002958"/>
                </a:solidFill>
                <a:latin typeface="Arial"/>
              </a:rPr>
              <a:t>DIN</a:t>
            </a:r>
            <a:r>
              <a:rPr b="0" lang="ru-RU" sz="1700" spc="-1" strike="noStrike">
                <a:solidFill>
                  <a:srgbClr val="002958"/>
                </a:solidFill>
                <a:latin typeface="Arial"/>
              </a:rPr>
              <a:t>. До проведения новых выборов/до решения президиума на службе остается предыдущий председатель. </a:t>
            </a:r>
            <a:endParaRPr b="0" lang="en-US" sz="17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2958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2958"/>
                </a:solidFill>
                <a:latin typeface="Arial"/>
              </a:rPr>
              <a:t>Если выбор председателя КС или его заместителя падает на члена консультативного совета, который назначен в соответствии с п. 7.4 </a:t>
            </a:r>
            <a:r>
              <a:rPr b="0" lang="de-DE" sz="1700" spc="-1" strike="noStrike">
                <a:solidFill>
                  <a:srgbClr val="002958"/>
                </a:solidFill>
                <a:latin typeface="Arial"/>
              </a:rPr>
              <a:t>d</a:t>
            </a:r>
            <a:r>
              <a:rPr b="0" lang="ru-RU" sz="1700" spc="-1" strike="noStrike">
                <a:solidFill>
                  <a:srgbClr val="002958"/>
                </a:solidFill>
                <a:latin typeface="Arial"/>
              </a:rPr>
              <a:t>), то срок его полномочий заканчивается в связи с отзывом назначения.</a:t>
            </a:r>
            <a:endParaRPr b="0" lang="en-US" sz="17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75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3A35-AEA9-4B3F-B7AD-DE55E9EB1670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483840"/>
            <a:ext cx="656280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958"/>
                </a:solidFill>
                <a:latin typeface="Arial"/>
              </a:rPr>
              <a:t>Председатель КС имеет следующие задачи: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представление КС во внешних кругах, 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тесное сотрудничество с директором</a:t>
            </a:r>
            <a:r>
              <a:rPr b="0" lang="de-DE" sz="1200" spc="-1" strike="noStrike">
                <a:solidFill>
                  <a:srgbClr val="002958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сотрудничество с начальниками отделов (кроме КС согласно п. 14) и руководством,  а также с руководством </a:t>
            </a:r>
            <a:r>
              <a:rPr b="0" lang="de-DE" sz="1200" spc="-1" strike="noStrike">
                <a:solidFill>
                  <a:srgbClr val="002958"/>
                </a:solidFill>
                <a:latin typeface="Arial"/>
              </a:rPr>
              <a:t>DIN </a:t>
            </a: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по общим вопросам, 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забота о том, чтобы в КС соблюдались требования стандартов ряда </a:t>
            </a:r>
            <a:r>
              <a:rPr b="0" lang="de-DE" sz="1200" spc="-1" strike="noStrike">
                <a:solidFill>
                  <a:srgbClr val="002958"/>
                </a:solidFill>
                <a:latin typeface="Arial"/>
              </a:rPr>
              <a:t>DIN</a:t>
            </a: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 820, данной Процедуры, постановления президиума </a:t>
            </a:r>
            <a:r>
              <a:rPr b="0" lang="de-DE" sz="1200" spc="-1" strike="noStrike">
                <a:solidFill>
                  <a:srgbClr val="002958"/>
                </a:solidFill>
                <a:latin typeface="Arial"/>
              </a:rPr>
              <a:t>DIN</a:t>
            </a: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, руководства КС, а также постановления консультативного совета КС, 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участие в назначении и отставке директора (см. п. 11.2), 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отставка начальников отделов или, если отделы не были учреждены, избранных начальников рабочих комитетов, если это требуется для реализации задач согласно п. 8.5 </a:t>
            </a:r>
            <a:r>
              <a:rPr b="0" lang="de-DE" sz="1200" spc="-1" strike="noStrike">
                <a:solidFill>
                  <a:srgbClr val="002958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), и организация новых выборов, 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исполнение обязанности главы консультативного совета, 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поддержка директора в обеспечении финансирования, 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контроль целесообразного распределения финансовых средств, если в соответствии с соглашением по п.14 не предусмотрено другое регулирование данного вопроса.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77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D896-A77C-439D-8935-ED99DA95CAD3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278" name="Rechteck 4"/>
          <p:cNvSpPr/>
          <p:nvPr/>
        </p:nvSpPr>
        <p:spPr>
          <a:xfrm>
            <a:off x="395280" y="411120"/>
            <a:ext cx="6840720" cy="4464000"/>
          </a:xfrm>
          <a:prstGeom prst="rect">
            <a:avLst/>
          </a:prstGeom>
          <a:noFill/>
          <a:ln w="25560">
            <a:solidFill>
              <a:srgbClr val="0077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68000" y="626760"/>
            <a:ext cx="670572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958"/>
                </a:solidFill>
                <a:latin typeface="Arial"/>
              </a:rPr>
              <a:t>Спонсоры</a:t>
            </a:r>
            <a:endParaRPr b="0" lang="en-US" sz="19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958"/>
                </a:solidFill>
                <a:latin typeface="Arial"/>
              </a:rPr>
              <a:t>Организации, принимающие участие в финансировании КС, называются спонсорами. Спонсорами могут быть: компании, ассоциации, государственные учреждения, общества, институты, а также индивидуальные лица. Спонсорство не означает, что данные организации или лица являются членами </a:t>
            </a:r>
            <a:r>
              <a:rPr b="0" lang="de-DE" sz="1900" spc="-1" strike="noStrike">
                <a:solidFill>
                  <a:srgbClr val="002958"/>
                </a:solidFill>
                <a:latin typeface="Arial"/>
              </a:rPr>
              <a:t>DIN</a:t>
            </a:r>
            <a:r>
              <a:rPr b="0" lang="ru-RU" sz="1900" spc="-1" strike="noStrike">
                <a:solidFill>
                  <a:srgbClr val="002958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958"/>
                </a:solidFill>
                <a:latin typeface="Arial"/>
              </a:rPr>
              <a:t>В регламенте КС может быть предусмотрено, что его спонсоры через своих полномочных представителей могут объединяться в спонсорскую группу. </a:t>
            </a:r>
            <a:endParaRPr b="0" lang="en-US" sz="19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80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394A-E10F-432B-BA9A-6DD48C09FA63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c001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c0014"/>
                </a:solidFill>
                <a:latin typeface="Arial"/>
              </a:rPr>
              <a:t>Рабочие комитеты</a:t>
            </a:r>
            <a:br>
              <a:rPr sz="2000"/>
            </a:br>
            <a:r>
              <a:rPr b="0" lang="de-DE" sz="2000" spc="-1" strike="noStrike">
                <a:solidFill>
                  <a:srgbClr val="9c0014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42920" y="714240"/>
            <a:ext cx="721512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58"/>
                </a:solidFill>
                <a:latin typeface="Arial"/>
              </a:rPr>
              <a:t>    </a:t>
            </a:r>
            <a:r>
              <a:rPr b="1" lang="de-DE" sz="1400" spc="-1" strike="noStrike">
                <a:solidFill>
                  <a:srgbClr val="002958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Рабочий комитет должен состоять из не более чем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 21 </a:t>
            </a: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сотрудника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 Данное количество по возможности не следует превышать. Превышение количества сотрудников требует разрешения со стороны консультативного совета или координационного комитета соответствующего отдела, если таковой имеется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Также возможно дополнительное временное участие приглашенных гостей по определенным проектам стандартов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 Об их допуске решает начальник комитета после консультации с директором КС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58"/>
                </a:solidFill>
                <a:latin typeface="Arial"/>
              </a:rPr>
              <a:t>    </a:t>
            </a:r>
            <a:r>
              <a:rPr b="1" lang="de-DE" sz="1400" spc="-1" strike="noStrike">
                <a:solidFill>
                  <a:srgbClr val="002958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Если в регламенте КС не предусмотрено иное, рабочий комитет сам принимает решение о своем составе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83" name="Нижний колонтитул 3"/>
          <p:cNvSpPr/>
          <p:nvPr/>
        </p:nvSpPr>
        <p:spPr>
          <a:xfrm>
            <a:off x="7596360" y="4821120"/>
            <a:ext cx="1008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2920" y="28584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0014"/>
                </a:solidFill>
                <a:latin typeface="Arial"/>
              </a:rPr>
              <a:t>Рабочие комитеты</a:t>
            </a:r>
            <a:br>
              <a:rPr sz="2000"/>
            </a:br>
            <a:r>
              <a:rPr b="0" lang="de-DE" sz="2000" spc="-1" strike="noStrike">
                <a:solidFill>
                  <a:srgbClr val="9c0014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85840" y="785520"/>
            <a:ext cx="711504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958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lvl="1" marL="444600" indent="-2635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При выборе сотрудников рабочий комитет должен учитывать, в частности, что 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958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их состав должен быть обусловлен особенностями рабочей области,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в работу по стандартизации должны привноситься новейшие знания экономики и соответствующего уровня техники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должна быть обеспечена непрерывность работы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 –</a:t>
            </a: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 поэтому сотрудники, не присутствующие на заседаниях три раза подряд, даже если они оставляли заместителей, должны быть вычеркнуты из списка сотрудников; сотрудников при этом необходимо ставить в известность об их исключении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86" name="Нижний колонтитул 3"/>
          <p:cNvSpPr/>
          <p:nvPr/>
        </p:nvSpPr>
        <p:spPr>
          <a:xfrm>
            <a:off x="7596360" y="4821120"/>
            <a:ext cx="1008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0014"/>
                </a:solidFill>
                <a:latin typeface="Arial"/>
              </a:rPr>
              <a:t>Рабочие комитеты- задачи (1)</a:t>
            </a:r>
            <a:endParaRPr b="0" lang="en-US" sz="2000" spc="-1" strike="noStrike">
              <a:solidFill>
                <a:srgbClr val="9c0014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785520"/>
            <a:ext cx="704376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Рабочий комитет имеет следующие задачи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: 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выбор начальника и его заместителя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,  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составление своей рабочей программы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включая постановку приоритетов и расписание с учетом предписаний консультативного совета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,  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в качестве центральной задачи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: </a:t>
            </a: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разработка и утверждение стандартов 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активное и своевременное участие в ключевой европейской и международной работе по стандартизации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в частности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разработка и обработка предложений по стандартизации в Европе и в мире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определение членов делегации на заседаниях европейских и международных рабочих комиссий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принятие во внимание действующих правил для международных и европейских работ по стандартизации, разработанных 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ISO/IEC</a:t>
            </a: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 / 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CEN/CENELEC</a:t>
            </a: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 /</a:t>
            </a:r>
            <a:r>
              <a:rPr b="0" lang="de-DE" sz="1400" spc="-1" strike="noStrike">
                <a:solidFill>
                  <a:srgbClr val="002958"/>
                </a:solidFill>
                <a:latin typeface="Arial"/>
              </a:rPr>
              <a:t> ETSI, 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89" name="Нижний колонтитул 3"/>
          <p:cNvSpPr/>
          <p:nvPr/>
        </p:nvSpPr>
        <p:spPr>
          <a:xfrm>
            <a:off x="7596360" y="4821120"/>
            <a:ext cx="1008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410760"/>
            <a:ext cx="6408720" cy="399960"/>
          </a:xfrm>
          <a:prstGeom prst="rect">
            <a:avLst/>
          </a:prstGeom>
          <a:noFill/>
          <a:ln w="0">
            <a:noFill/>
          </a:ln>
        </p:spPr>
        <p:txBody>
          <a:bodyPr lIns="720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0014"/>
                </a:solidFill>
                <a:latin typeface="Arial"/>
              </a:rPr>
              <a:t>Рабочие комитеты- задачи (2)</a:t>
            </a:r>
            <a:endParaRPr b="0" lang="en-US" sz="20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4360" y="856800"/>
            <a:ext cx="6673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601"/>
              </a:spcAft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представление немецкого видения проектов стандартов и соответствующих нормативных документов на европейском и международном уровнях</a:t>
            </a:r>
            <a:r>
              <a:rPr b="0" lang="de-DE" sz="1800" spc="-1" strike="noStrike">
                <a:solidFill>
                  <a:srgbClr val="002958"/>
                </a:solidFill>
                <a:latin typeface="Arial"/>
              </a:rPr>
              <a:t>, 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принятие решения о принятии или отклонении европейских и международных стандартов</a:t>
            </a:r>
            <a:r>
              <a:rPr b="0" lang="de-DE" sz="1800" spc="-1" strike="noStrike">
                <a:solidFill>
                  <a:srgbClr val="002958"/>
                </a:solidFill>
                <a:latin typeface="Arial"/>
              </a:rPr>
              <a:t>,  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участие в обработке задач по сертификации</a:t>
            </a:r>
            <a:r>
              <a:rPr b="0" lang="de-DE" sz="1800" spc="-1" strike="noStrike">
                <a:solidFill>
                  <a:srgbClr val="002958"/>
                </a:solidFill>
                <a:latin typeface="Arial"/>
              </a:rPr>
              <a:t>,  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контроль того</a:t>
            </a:r>
            <a:r>
              <a:rPr b="0" lang="de-DE" sz="1800" spc="-1" strike="noStrike">
                <a:solidFill>
                  <a:srgbClr val="002958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чтобы подлежащие разработке и уже имеющиеся стандарты</a:t>
            </a:r>
            <a:r>
              <a:rPr b="0" lang="de-DE" sz="1800" spc="-1" strike="noStrike">
                <a:solidFill>
                  <a:srgbClr val="002958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за которые ответственен КС</a:t>
            </a:r>
            <a:r>
              <a:rPr b="0" lang="de-DE" sz="1800" spc="-1" strike="noStrike">
                <a:solidFill>
                  <a:srgbClr val="002958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находились в соответствии с уровнем техники</a:t>
            </a:r>
            <a:r>
              <a:rPr b="0" lang="de-DE" sz="1800" spc="-1" strike="noStrike">
                <a:solidFill>
                  <a:srgbClr val="002958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научными знаниями</a:t>
            </a:r>
            <a:r>
              <a:rPr b="0" lang="de-DE" sz="1800" spc="-1" strike="noStrike">
                <a:solidFill>
                  <a:srgbClr val="002958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а также с другими немецкими стандартами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92" name="Нижний колонтитул 3"/>
          <p:cNvSpPr/>
          <p:nvPr/>
        </p:nvSpPr>
        <p:spPr>
          <a:xfrm>
            <a:off x="7596360" y="4821120"/>
            <a:ext cx="1008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2b5c"/>
                </a:solidFill>
                <a:latin typeface="Arial"/>
                <a:ea typeface="Arial"/>
              </a:rPr>
              <a:t>© 2014, DIN e. V.</a:t>
            </a:r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293" name="Номер слайда 4"/>
          <p:cNvSpPr/>
          <p:nvPr/>
        </p:nvSpPr>
        <p:spPr>
          <a:xfrm>
            <a:off x="8317080" y="4821120"/>
            <a:ext cx="79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6978-E12C-4100-96BA-5809F21D9BB1}" type="slidenum">
              <a:rPr b="0" lang="de-DE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68360" y="627120"/>
            <a:ext cx="69832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35800" indent="-235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958"/>
                </a:solidFill>
                <a:latin typeface="Arial"/>
              </a:rPr>
              <a:t>Задачи комитета по стандартизации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35800" indent="-235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35800" indent="-23580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Комитет по стандартизации (КС) несет ответственность за национальную стандартизацию в своей рабочей области и области компетенции,  а также участвует в процессах стандартизации на европейском и международном уровнях.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35800" indent="-235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35800" indent="-23580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Он стремится к внедрению германских стандартов в областях своей компетенции в тех сферах жизни, которые они затрагивают и сотрудничает при решении задач, связанных с сертификацией.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50" name="Foliennummernplatzhalt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1975-00A1-4FE4-8198-976A4AC9FEC9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2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9685-3CE0-4102-ABC4-0880B72CD370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8000" y="555480"/>
            <a:ext cx="6994440" cy="35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958"/>
                </a:solidFill>
                <a:latin typeface="Arial"/>
              </a:rPr>
              <a:t>Основание комитета по стандартизации</a:t>
            </a:r>
            <a:endParaRPr b="0" lang="en-US" sz="17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958"/>
                </a:solidFill>
                <a:latin typeface="Arial"/>
              </a:rPr>
              <a:t>Основание КС может быть предложено председателем правления </a:t>
            </a:r>
            <a:r>
              <a:rPr b="0" lang="de-DE" sz="1700" spc="-1" strike="noStrike">
                <a:solidFill>
                  <a:srgbClr val="002958"/>
                </a:solidFill>
                <a:latin typeface="Arial"/>
              </a:rPr>
              <a:t>DIN</a:t>
            </a:r>
            <a:r>
              <a:rPr b="0" lang="ru-RU" sz="1700" spc="-1" strike="noStrike">
                <a:solidFill>
                  <a:srgbClr val="002958"/>
                </a:solidFill>
                <a:latin typeface="Arial"/>
              </a:rPr>
              <a:t> президиуму, в случаях если </a:t>
            </a:r>
            <a:endParaRPr b="0" lang="en-US" sz="17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958"/>
                </a:solidFill>
                <a:latin typeface="Arial"/>
              </a:rPr>
              <a:t>есть заявка на стандартизацию, по которой ни один из существующих КС не может взять на себя ответственность, </a:t>
            </a:r>
            <a:endParaRPr b="0" lang="en-US" sz="17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958"/>
                </a:solidFill>
                <a:latin typeface="Arial"/>
              </a:rPr>
              <a:t>несколько КС должны быть объединены в один, </a:t>
            </a:r>
            <a:endParaRPr b="0" lang="en-US" sz="17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958"/>
                </a:solidFill>
                <a:latin typeface="Arial"/>
              </a:rPr>
              <a:t>из-за объема и/или значения одной части рабочей области КС данная часть должна быть обособлена как новый КС.</a:t>
            </a:r>
            <a:endParaRPr b="0" lang="en-US" sz="1700" spc="-1" strike="noStrike">
              <a:solidFill>
                <a:srgbClr val="00295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24000" y="987120"/>
            <a:ext cx="698472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 indent="-2635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2958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958"/>
                </a:solidFill>
                <a:latin typeface="Arial"/>
              </a:rPr>
              <a:t>Если президиум поддерживает предложенное основание, название и рабочую область, председатель правления </a:t>
            </a:r>
            <a:r>
              <a:rPr b="0" lang="de-DE" sz="2200" spc="-1" strike="noStrike">
                <a:solidFill>
                  <a:srgbClr val="002958"/>
                </a:solidFill>
                <a:latin typeface="Arial"/>
              </a:rPr>
              <a:t>DIN </a:t>
            </a:r>
            <a:r>
              <a:rPr b="0" lang="ru-RU" sz="2200" spc="-1" strike="noStrike">
                <a:solidFill>
                  <a:srgbClr val="002958"/>
                </a:solidFill>
                <a:latin typeface="Arial"/>
              </a:rPr>
              <a:t>приглашает заинтересованные стороны на первое заседание и назначает временного директора.</a:t>
            </a:r>
            <a:endParaRPr b="0" lang="en-US" sz="2200" spc="-1" strike="noStrike">
              <a:solidFill>
                <a:srgbClr val="002958"/>
              </a:solidFill>
              <a:latin typeface="Arial"/>
            </a:endParaRPr>
          </a:p>
          <a:p>
            <a:pPr lvl="1" marL="444600" indent="-2635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958"/>
              </a:solidFill>
              <a:latin typeface="Arial"/>
            </a:endParaRPr>
          </a:p>
          <a:p>
            <a:pPr lvl="1" marL="444600" indent="-2635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2958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958"/>
                </a:solidFill>
                <a:latin typeface="Arial"/>
              </a:rPr>
              <a:t>Первое заседание возглавляет один из членов руководства </a:t>
            </a:r>
            <a:r>
              <a:rPr b="0" lang="en-US" sz="2200" spc="-1" strike="noStrike">
                <a:solidFill>
                  <a:srgbClr val="002958"/>
                </a:solidFill>
                <a:latin typeface="Arial"/>
              </a:rPr>
              <a:t>DIN</a:t>
            </a:r>
            <a:r>
              <a:rPr b="0" lang="ru-RU" sz="2200" spc="-1" strike="noStrike">
                <a:solidFill>
                  <a:srgbClr val="002958"/>
                </a:solidFill>
                <a:latin typeface="Arial"/>
              </a:rPr>
              <a:t> или временно назначенный директор.  </a:t>
            </a:r>
            <a:endParaRPr b="0" lang="en-US" sz="22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54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761A-371B-4AA9-A0FC-CE38CFBBE756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255" name="Rechteck 4"/>
          <p:cNvSpPr/>
          <p:nvPr/>
        </p:nvSpPr>
        <p:spPr>
          <a:xfrm>
            <a:off x="468360" y="915840"/>
            <a:ext cx="6696000" cy="3438720"/>
          </a:xfrm>
          <a:prstGeom prst="rect">
            <a:avLst/>
          </a:prstGeom>
          <a:noFill/>
          <a:ln w="25560">
            <a:solidFill>
              <a:srgbClr val="0077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68360" y="339840"/>
            <a:ext cx="688968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958"/>
                </a:solidFill>
                <a:latin typeface="Arial"/>
              </a:rPr>
              <a:t>На первом заседании следует решить следующие задачи: 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определение того, все ли заинтересованные стороны были приглашены, 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определение того, есть ли интерес к созданию нового КС и, в случае необходимости, издание приказа об основании КС, 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создание предварительной рабочей программы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утверждение плана финансирования</a:t>
            </a:r>
            <a:r>
              <a:rPr b="0" lang="de-DE" sz="1800" spc="-1" strike="noStrike">
                <a:solidFill>
                  <a:srgbClr val="002958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избрание консультативного совета</a:t>
            </a:r>
            <a:r>
              <a:rPr b="0" lang="de-DE" sz="1800" spc="-1" strike="noStrike">
                <a:solidFill>
                  <a:srgbClr val="002958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назначение председателя КС и его заместителя, 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в случае необходимости, создание рабочих комитетов и назначение их временных координаторов. 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57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95DC-B1BD-4E4F-9467-F1CF1DBCD772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68360" y="771120"/>
            <a:ext cx="656280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1800" indent="-36180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958"/>
                </a:solidFill>
                <a:latin typeface="Arial"/>
              </a:rPr>
              <a:t>Основание КС требует подтверждения президента </a:t>
            </a:r>
            <a:r>
              <a:rPr b="0" lang="de-DE" sz="1500" spc="-1" strike="noStrike">
                <a:solidFill>
                  <a:srgbClr val="002958"/>
                </a:solidFill>
                <a:latin typeface="Arial"/>
              </a:rPr>
              <a:t>DIN</a:t>
            </a:r>
            <a:r>
              <a:rPr b="0" lang="ru-RU" sz="1500" spc="-1" strike="noStrike">
                <a:solidFill>
                  <a:srgbClr val="002958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  <a:p>
            <a:pPr lvl="1" marL="361800" indent="-36180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958"/>
                </a:solidFill>
                <a:latin typeface="Arial"/>
              </a:rPr>
              <a:t>Изменения наименования или области работы КС требуют подтверждения президиума </a:t>
            </a:r>
            <a:r>
              <a:rPr b="0" lang="de-DE" sz="1500" spc="-1" strike="noStrike">
                <a:solidFill>
                  <a:srgbClr val="002958"/>
                </a:solidFill>
                <a:latin typeface="Arial"/>
              </a:rPr>
              <a:t>DIN</a:t>
            </a:r>
            <a:r>
              <a:rPr b="0" lang="ru-RU" sz="1500" spc="-1" strike="noStrike">
                <a:solidFill>
                  <a:srgbClr val="002958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  <a:p>
            <a:pPr lvl="1" marL="361800" indent="-36180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958"/>
                </a:solidFill>
                <a:latin typeface="Arial"/>
              </a:rPr>
              <a:t>Об основании КС должно быть сообщено с указанием его рабочей области в виде уведомления </a:t>
            </a:r>
            <a:r>
              <a:rPr b="0" lang="de-DE" sz="1500" spc="-1" strike="noStrike">
                <a:solidFill>
                  <a:srgbClr val="002958"/>
                </a:solidFill>
                <a:latin typeface="Arial"/>
              </a:rPr>
              <a:t>DIN</a:t>
            </a:r>
            <a:r>
              <a:rPr b="0" lang="ru-RU" sz="1500" spc="-1" strike="noStrike">
                <a:solidFill>
                  <a:srgbClr val="002958"/>
                </a:solidFill>
                <a:latin typeface="Arial"/>
              </a:rPr>
              <a:t> + в электронной форме, то же самое касается всех изменений рабочей области. </a:t>
            </a: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958"/>
                </a:solidFill>
                <a:latin typeface="Arial"/>
              </a:rPr>
              <a:t>Утвержденный в соответствии с п. 3.3 </a:t>
            </a:r>
            <a:r>
              <a:rPr b="0" lang="de-DE" sz="1500" spc="-1" strike="noStrike">
                <a:solidFill>
                  <a:srgbClr val="002958"/>
                </a:solidFill>
                <a:latin typeface="Arial"/>
              </a:rPr>
              <a:t>d</a:t>
            </a:r>
            <a:r>
              <a:rPr b="0" lang="ru-RU" sz="1500" spc="-1" strike="noStrike">
                <a:solidFill>
                  <a:srgbClr val="002958"/>
                </a:solidFill>
                <a:latin typeface="Arial"/>
              </a:rPr>
              <a:t>) план финансирования подлежит подтверждению со стороны председателя правления </a:t>
            </a:r>
            <a:r>
              <a:rPr b="0" lang="de-DE" sz="1500" spc="-1" strike="noStrike">
                <a:solidFill>
                  <a:srgbClr val="002958"/>
                </a:solidFill>
                <a:latin typeface="Arial"/>
              </a:rPr>
              <a:t>DIN</a:t>
            </a:r>
            <a:r>
              <a:rPr b="0" lang="ru-RU" sz="1500" spc="-1" strike="noStrike">
                <a:solidFill>
                  <a:srgbClr val="002958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958"/>
                </a:solidFill>
                <a:latin typeface="Arial"/>
              </a:rPr>
              <a:t>До утверждения председателя КС и его заместителя Президентом </a:t>
            </a:r>
            <a:r>
              <a:rPr b="0" lang="de-DE" sz="1500" spc="-1" strike="noStrike">
                <a:solidFill>
                  <a:srgbClr val="002958"/>
                </a:solidFill>
                <a:latin typeface="Arial"/>
              </a:rPr>
              <a:t>DIN </a:t>
            </a:r>
            <a:r>
              <a:rPr b="0" lang="ru-RU" sz="1500" spc="-1" strike="noStrike">
                <a:solidFill>
                  <a:srgbClr val="002958"/>
                </a:solidFill>
                <a:latin typeface="Arial"/>
              </a:rPr>
              <a:t>(см. п. 8.3) люди на данных должностях исполняют свои обязанности временно.  </a:t>
            </a: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59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CF95-F970-4078-8E6C-03308E7DD976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  <p:sp>
        <p:nvSpPr>
          <p:cNvPr id="260" name="Rechteck 4"/>
          <p:cNvSpPr/>
          <p:nvPr/>
        </p:nvSpPr>
        <p:spPr>
          <a:xfrm>
            <a:off x="468360" y="700200"/>
            <a:ext cx="6624720" cy="3600360"/>
          </a:xfrm>
          <a:prstGeom prst="rect">
            <a:avLst/>
          </a:prstGeom>
          <a:noFill/>
          <a:ln w="25560">
            <a:solidFill>
              <a:srgbClr val="0077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68000" y="483840"/>
            <a:ext cx="699444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30760" indent="-230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958"/>
                </a:solidFill>
                <a:latin typeface="Arial"/>
              </a:rPr>
              <a:t>Прекращение деятельности (роспуск) комитета по стандартизации</a:t>
            </a:r>
            <a:r>
              <a:rPr b="1" lang="de-DE" sz="1400" spc="-1" strike="noStrike">
                <a:solidFill>
                  <a:srgbClr val="002958"/>
                </a:solidFill>
                <a:latin typeface="Arial"/>
              </a:rPr>
              <a:t> - 1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30760" indent="-230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958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2958"/>
              </a:solidFill>
              <a:latin typeface="Arial"/>
            </a:endParaRPr>
          </a:p>
          <a:p>
            <a:pPr marL="230760" indent="-2307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Прекращение деятельности КС осуществляется посредством постановления президиума </a:t>
            </a:r>
            <a:r>
              <a:rPr b="0" lang="de-DE" sz="1200" spc="-1" strike="noStrike">
                <a:solidFill>
                  <a:srgbClr val="002958"/>
                </a:solidFill>
                <a:latin typeface="Arial"/>
              </a:rPr>
              <a:t>DIN</a:t>
            </a: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30760" indent="-230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30760" indent="-2307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Самороспуск КС осуществляется путем издания приказа и его одобрения двумя третьими круга сотрудников соответствующего КС (см. п. 6.2). Данный приказ о самороспуске требует подтверждения со стороны президиума </a:t>
            </a:r>
            <a:r>
              <a:rPr b="0" lang="en-US" sz="1200" spc="-1" strike="noStrike">
                <a:solidFill>
                  <a:srgbClr val="002958"/>
                </a:solidFill>
                <a:latin typeface="Arial"/>
              </a:rPr>
              <a:t>DIN</a:t>
            </a: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30760" indent="-2307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30760" indent="-2307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Председатель правления </a:t>
            </a:r>
            <a:r>
              <a:rPr b="0" lang="de-DE" sz="1200" spc="-1" strike="noStrike">
                <a:solidFill>
                  <a:srgbClr val="002958"/>
                </a:solidFill>
                <a:latin typeface="Arial"/>
              </a:rPr>
              <a:t>DIN </a:t>
            </a: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может декларировать приостановление работы КС, если не хватает финансирования для дальнейшей его работы и в обозримый промежуток времени не предвидится поступления достаточного количества финансовых средств для работы. Председатель правления </a:t>
            </a:r>
            <a:r>
              <a:rPr b="0" lang="de-DE" sz="1200" spc="-1" strike="noStrike">
                <a:solidFill>
                  <a:srgbClr val="002958"/>
                </a:solidFill>
                <a:latin typeface="Arial"/>
              </a:rPr>
              <a:t>DIN</a:t>
            </a: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, не позднее, чем через два года проверяет вместе с консультативным советом, следует ли отменить решение о приостановлении или же следует предложить президиуму согласно п. 4.1 или кругу сотрудников согласно п. 4.2 распустить соответствующий КС.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30760" indent="-2307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95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Если все проекты по стандартизации были доведены до своего завершения, консультативный совет может декларировать приостановление работы КС до нового заказа на стандартизацию или до необходимости переработки существующего стандарта. 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30760" indent="-23076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62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CCF3-94B4-489A-966D-AB5205500962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555120"/>
            <a:ext cx="6778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958"/>
                </a:solidFill>
                <a:latin typeface="Arial"/>
              </a:rPr>
              <a:t>Прекращение деятельности (роспуск) комитета по стандартизации</a:t>
            </a:r>
            <a:r>
              <a:rPr b="1" lang="de-DE" sz="1800" spc="-1" strike="noStrike">
                <a:solidFill>
                  <a:srgbClr val="002958"/>
                </a:solidFill>
                <a:latin typeface="Arial"/>
              </a:rPr>
              <a:t> – 2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Производственные акты распущенного КС должны быть заархивированы </a:t>
            </a:r>
            <a:r>
              <a:rPr b="0" lang="de-DE" sz="1800" spc="-1" strike="noStrike">
                <a:solidFill>
                  <a:srgbClr val="002958"/>
                </a:solidFill>
                <a:latin typeface="Arial"/>
              </a:rPr>
              <a:t>DI</a:t>
            </a:r>
            <a:r>
              <a:rPr b="0" lang="en-US" sz="1800" spc="-1" strike="noStrike">
                <a:solidFill>
                  <a:srgbClr val="002958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Имеющееся имущество становится имуществом </a:t>
            </a:r>
            <a:r>
              <a:rPr b="0" lang="de-DE" sz="1800" spc="-1" strike="noStrike">
                <a:solidFill>
                  <a:srgbClr val="002958"/>
                </a:solidFill>
                <a:latin typeface="Arial"/>
              </a:rPr>
              <a:t>DIN</a:t>
            </a: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, в случае если в соглашении по п.14 не предусмотрено иное регулирование данного вопроса.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О роспуске или приостановлении работы КС сообщается в уведомлениях </a:t>
            </a:r>
            <a:r>
              <a:rPr b="0" lang="de-DE" sz="1800" spc="-1" strike="noStrike">
                <a:solidFill>
                  <a:srgbClr val="002958"/>
                </a:solidFill>
                <a:latin typeface="Arial"/>
              </a:rPr>
              <a:t>DIN </a:t>
            </a:r>
            <a:r>
              <a:rPr b="0" lang="ru-RU" sz="1800" spc="-1" strike="noStrike">
                <a:solidFill>
                  <a:srgbClr val="002958"/>
                </a:solidFill>
                <a:latin typeface="Arial"/>
              </a:rPr>
              <a:t>+ в электронной форме. </a:t>
            </a: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64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2FD7-D4CB-4FC9-9000-1A920D16CEE4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6840" y="339840"/>
            <a:ext cx="67071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958"/>
                </a:solidFill>
                <a:latin typeface="Arial"/>
              </a:rPr>
              <a:t>Консультативный совет имеет следующие задачи</a:t>
            </a:r>
            <a:r>
              <a:rPr b="1" lang="de-DE" sz="1200" spc="-1" strike="noStrike">
                <a:solidFill>
                  <a:srgbClr val="002958"/>
                </a:solidFill>
                <a:latin typeface="Arial"/>
              </a:rPr>
              <a:t>  -1-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избрание председателя КС и его заместителя, 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проведение, как правило, раз в год, одного заседания, при этом дату и время заседания следует согласовывать с полномочными начальниками отделов / с полномочным членом руководства </a:t>
            </a:r>
            <a:r>
              <a:rPr b="0" lang="de-DE" sz="1200" spc="-1" strike="noStrike">
                <a:solidFill>
                  <a:srgbClr val="002958"/>
                </a:solidFill>
                <a:latin typeface="Arial"/>
              </a:rPr>
              <a:t>DIN</a:t>
            </a: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систематическое составление рабочей программы КС с учетом ее экономической целесообразности, уровня техники, научных знаний и развития права, европейской и международной гармонизации технических правил и финансовых рамочных условий; утверждение приоритетов и сроков обработки, а также контроль хода работы. При этом европейская и международная работа имеет приоритет перед национальной работой. Далее, должны быть идентифицированы такие рабочие области, в которых необходима поддержка развития стандартизации,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подключение и роспуск рабочих комитетов и, если имеются, отделов, при утверждении соответствующей рабочей области, 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контроль профессиональной работы и ее координация как внутри КС, так и работы с другими КС. Сюда относится также решение о различных пониманиях рабочих комиссий КС по какому-либо вопросу, 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руководство и мониторинг участия в европейской и международной работе по стандартизации, учет соблюдения правил и высших целей </a:t>
            </a:r>
            <a:r>
              <a:rPr b="0" lang="de-DE" sz="1200" spc="-1" strike="noStrike">
                <a:solidFill>
                  <a:srgbClr val="002958"/>
                </a:solidFill>
                <a:latin typeface="Arial"/>
              </a:rPr>
              <a:t>DIN </a:t>
            </a:r>
            <a:r>
              <a:rPr b="0" lang="ru-RU" sz="1200" spc="-1" strike="noStrike">
                <a:solidFill>
                  <a:srgbClr val="002958"/>
                </a:solidFill>
                <a:latin typeface="Arial"/>
              </a:rPr>
              <a:t>и его имиджа в глазах общественности. Для этого совет регулярно информируют о существенных процессах по стандартизации на национальном, европейском и международном уровнях в области работы КС, </a:t>
            </a: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Aft>
                <a:spcPts val="601"/>
              </a:spcAft>
              <a:buClr>
                <a:srgbClr val="9c00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958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2A5F-F281-4B43-B6AF-CE17D0DA69E5}" type="slidenum">
              <a:rPr b="0" lang="ru-RU" sz="900" spc="-1" strike="noStrike">
                <a:solidFill>
                  <a:srgbClr val="002b5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2b5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2:33:25Z</dcterms:created>
  <dc:creator>Dominique Gaensecke</dc:creator>
  <dc:description/>
  <dc:language>en-US</dc:language>
  <cp:lastModifiedBy>Salmorbek Asanaliev</cp:lastModifiedBy>
  <dcterms:modified xsi:type="dcterms:W3CDTF">2016-06-16T08:34:47Z</dcterms:modified>
  <cp:revision>626</cp:revision>
  <dc:subject/>
  <dc:title>PowerPoint-Präsentation</dc:title>
</cp:coreProperties>
</file>